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94D-6881-42D7-8C23-FD90C97D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2CC-C535-4437-9FE9-86F111E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8F1-8CC1-40AE-9A9E-B3DE6019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37A-20EA-4C1B-A4B5-C4B3B3DE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51DF-2A5F-470A-8A1A-2721891E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F82-3A79-4865-A64C-D5DAE729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7F2B-3FAF-4CE8-AAE5-A7D38074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EF80-53C5-4430-A62D-4A4DB17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AD5-98D3-4ED1-B106-99147E96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D24-C004-4B3D-AEBC-9F2C08D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E5C7-DF1E-45D9-B596-13A1281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543-F1FA-4BE6-AD41-14E681F1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8772-5861-4028-9363-467AF44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959B-373F-477A-8B21-F4CE4E8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70DD-87BB-4647-B5D1-0A1AADA6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853-FF30-4551-815D-7E7EAD9C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A967-E147-410F-9F47-123674F1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BECF-273D-463E-931A-9F3ED197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EA9FB-6329-4C86-A6AB-59DE9273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9D91-0B6C-48F4-8134-B9C7EBB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25CF-1249-49B6-901B-35E80AF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BC51-57EF-4A6E-A228-F8AAE20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F54-0005-4C20-9ED6-CF5236EC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D3F4-1C4E-4C41-B211-CF3A2055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F434-39AB-4294-80F7-A59CFE71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D1ED-9CCB-4085-8A29-171D586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1E74-A33B-4DED-9893-18275111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3B3C-FA0C-4810-BC97-A8ECE084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70B2-511B-4835-966F-3CF312BE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C492-F412-4F94-BBC4-3F2C4714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196F-D4FE-4D70-B13C-FEB30841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234B-1E55-42A7-8B5F-8B92A6DB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A2E0-5E0F-4CBF-933E-EF3ABB5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5E9-1574-47FD-993C-D1CB9654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7FD0-4D90-4731-9E45-906DFB0D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04EB-D15F-479A-A78A-CECFBD7B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6413-3ED0-41A9-8EF3-A5145BD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59CE0-8E02-4A4C-B133-87CA7821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10F7-1197-4AED-8627-208EF2E1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B7AD-5384-4467-B0FC-BAE43C1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2914-5E36-4C2B-902A-77DDE65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D018-DC0D-4C2B-9B89-E89A5D09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971A-9CB2-40BE-9D2F-BC2BDFF4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636-D0D0-4B0B-A6E3-51FAC579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757-5EB6-4B9C-AD0A-D7BF1FE7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E32-F7B3-49F1-B6B1-771C58F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83A-3DAD-4BD9-B2CC-B5E69B3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C59-AC84-4132-A6D3-DA83424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1DF8-E9DE-4A5C-991F-1FC2FC5C78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B060-8417-4329-A483-98135B5CF8E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25E-61D9-4E00-AD4C-06A69D028C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AA67-BE49-400A-8C0D-49CE5ACFDC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467560" cy="3060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 ученик 7 «г»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обанов А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презент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ести понятие волны и проанализировать её характеристик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31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лной</a:t>
            </a: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зывают колебания, распространяющиеся в пространстве с течением времен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5324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жнейшей характеристикой вол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является ее скорость. Волны любой природы не распространяются в пространстве мгновенно. Их скорость конеч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распространении механической волны движение передается от одного участка тела к другому. С передачей движения связана передача энергии. Основное свойство всех волн независимо от их природы состоит в переносе ими энергии без переноса вещества. Энергия поступает от источника, возбуждающего колебания начала шнура, струны и т. д., и распространяется вместе с вол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заставить конец растянутого резинового шнура колебаться гармонически с определенной частотой  V, то эти колебания начнут распространяться вдоль шнура. Колебания любого участка шнура происходят с той же частотой и амплитудой, что и колебания конца шнура. Но только эти колебания сдвинуты по фазе друг относительно друга. Подобные волны называю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онохроматически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сдвиг фаз между колебаниями двух точек шнура равен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о эти точки колеблются совершенно одинаково: ведь с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=соs2</a:t>
            </a:r>
            <a:r>
              <a:rPr b="0" i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t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акие колебания назы­ваю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инфазны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происходят в одинаковых фазах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язь между длиной  волны λ, частотой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коростью распространения волны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За один период колебаний волна распространяется на расстояние λ. Поэтому ее скорость определяется формул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λ /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как период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частота V связаны соотношением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1 /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орость волны равна произведению длины волны на частоту колебаний.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якишев Г.Я. , Буховцев Б.Б. Физика – 11. М. 199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еснин Р.В., Яковлев В.Ф. Курс физики. Электричество. М. 19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орский Б.М., Пинский А.А. Основы физики. т. 2. М. 198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ru.wikipedia.org/wiki/Электромагнитное_излуч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physics.ru/courses/op25part2/content/chapter2/section/paragraph6/theory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bse.sci-lib.com/article126043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drlqywusgjtoy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ur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2:22:41Z</dcterms:created>
  <dc:creator>Григорий</dc:creator>
  <dc:description/>
  <dc:language>en-US</dc:language>
  <cp:lastModifiedBy>Григорий</cp:lastModifiedBy>
  <dcterms:modified xsi:type="dcterms:W3CDTF">2010-06-04T12:19:29Z</dcterms:modified>
  <cp:revision>5</cp:revision>
  <dc:subject/>
  <dc:title>Понятие волна и ее характеристики</dc:title>
</cp:coreProperties>
</file>